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944B-8E5B-4B19-BF4D-9FA8FF9F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C6E-9A16-48C2-83C8-1F326644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7BA62-9994-40B9-87CC-7BD791E8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D62C7-0E4A-4605-8CAC-E6DBFFC6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F2337-D60B-4B0F-A553-35D21DAD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27373-CC65-4BF8-BCAB-CCEEF7C2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7B897-01ED-4B51-825A-B29C4AE7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B47BF-5266-4EC1-A626-06217CD0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A2532-29C1-4D14-814A-0F658116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70370-6AA9-43D6-83F5-2794F262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CFEF3-EB4B-47DD-98C2-5AC4C112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FDB88-4FD8-4508-9D8A-DB81B9E3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EF0-BA66-419E-AD85-8AF5A23F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02EEF-B22E-4341-8A64-19B4AB33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FF54A-3342-47EB-87C5-8D9B327C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4FFC9-5A78-4165-8C75-1917607E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8D0FD-D649-4A5F-AD78-77BFCEEC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FD59F-1573-4A1B-8498-217E55FE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03063-BA9D-4B4A-BEDF-CF861608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FF22A-64B3-4B80-8168-B824056C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A4485-EBA4-4B47-BEAC-75694052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E15AA-7425-4A16-BD8C-B401B4A3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F21D5-65A7-4F11-9164-0206FAB3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B09-B73D-45CB-8FFE-4EEBD690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87894-7DAC-44FA-B81D-FC3D039F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C6CAA-929B-4E89-AD2E-C91AAE11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2EF31-0449-4661-9ACE-DF5D638C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828A4-A7E6-45B5-B7B5-A4963646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91126-ADC2-4F56-8E0D-031F8E73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92D12-0DE1-4584-803F-37D949FD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FBB56-4545-44E2-B18A-52EFAC12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C985B-79BB-4849-A2B4-D409DD61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9FED0-3DE5-418D-B513-879966E5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8394F-0764-4A0B-BA75-5E243E38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E9CA-3B51-442A-A5E4-9E89BCF6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67213-44C7-4695-8571-46A92A15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79AE9-BFC0-441E-B7F0-A38EAA55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66D93-5AAC-4D9D-8AC4-C6B34DE2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2D40D-2B3A-43CC-AE87-B88016C5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F5BE7-C97F-4337-B75D-AF3576AC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01778-5D84-41A4-8A5C-00B6119D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D4FF2-12B9-4E11-80EC-2CFBA34C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AA43A-490A-49D1-9864-44FD6C66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81AF5-F7D2-4520-8641-EB278E12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80DD8-6D80-4143-BCFA-54E5A4B1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25D8-2B3B-48DB-9513-02C8441F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104B7-A88A-4242-9969-5F8994D2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A16CE-8DF1-44A1-B4AC-A545AF3D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9DDD3-C9B7-4658-97DB-080D124F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16B1E-CFCF-4533-90F6-A6046ABD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CFC01-2C2F-4632-BB19-3956223F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FBDA40-19E3-4685-B8F8-BFF96836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4ECAA-0622-42C5-AF63-0907449D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52481B-1732-491C-8D67-5B129440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1DD38-FBA9-4A46-ADEC-8B094CFE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DA736-D187-418E-8BE4-63E72CFE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F56C-FAE3-4D87-8323-8AF80D01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55A7B-1656-4BB9-9F0A-CA477011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D18059-B52D-4248-82DC-D3785357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3E934-B23E-4DF8-B175-6B0B3491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CEF97-FF17-4114-8C70-3704C63E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A7FAAE-1852-4121-B8B2-A9226843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D9A0C0-4E26-42DC-AB5F-E03FF114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A271F4-3FF4-4971-BF6B-9B93763D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96FBCD-A088-4C27-9BA7-93ABCCC3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BF961E-DF17-446F-9A1F-B3DC9917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0BBB6F-DAA9-4A4C-986A-DF65D6C7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9E90-EA16-4E19-9D48-D483ACA3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A7B1E3-D295-4A34-A23D-62ACB5C9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90027A-EF1E-43A8-974E-E3F7EF1C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BAC112-6EA4-420A-866C-5F3DE2E8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8D623C-69C8-4DD7-ADE4-4477A0AD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1E1EC8-4C5F-4F8E-BF3A-CDB12238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618AD2-52B7-45BF-B012-B06EB0FE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9C2991-595F-428B-B743-C3EA28B4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A8E79A-413F-4012-A3B6-0F9DE949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DC6BA5-6D4D-4F1D-80F6-911D97A3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6E1E27-7F6D-4689-B5C4-D60F83D3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3AE8-FB64-460D-AEA4-A0E5CDF0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3647CF-7F84-4E50-904A-8590C7A7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1AE8C3-47C2-455E-B58D-ACB52391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313EA0-6509-4B74-AE9A-74C0BB06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28C9CE-D845-4748-9203-081BCC44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15678E-3176-4D36-B33F-8E4A5E98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4245B3-3B03-46AB-8D55-CFBDE521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9A045F-1D61-4757-BE42-4CED57B4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FDE068-AA24-4D1C-901F-280F8F60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694DCC-813B-4EC8-9770-B1871B35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D5974C-F922-4938-8145-7B5E6922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B9DF-8103-4809-A87D-71BB47C8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7D944F-00F0-45FA-9B30-ADFDF757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563BE8-4F0F-4A40-B215-DC6B13A7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5F463A-7646-4075-9889-5C24C373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C2B1A1-DB37-4FDE-ADAE-EB886633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52EB48-BBD0-4666-ACDF-5B4C4FC8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C4586D-AB79-4EA7-9D3D-6B1546D5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808612-B16D-426D-A283-C0D18C69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E8F597-20B5-4579-8959-9D6497EF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3C7DD3-D5C3-4869-876A-6A4FEFF0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824F67-C623-4401-B61C-B0B91959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7211-934A-4E11-BE7B-E565E8D3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76000B-1A58-4264-9E5F-554D8924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D7A02A-5255-4096-9B6F-38FA420F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C19B34-42A4-41AB-916C-643FE1F3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7E5AA7-E1CE-4FF0-9383-558A067C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5E7536-8DDD-4177-9E97-727B0708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91769A-BE6F-4609-92D4-AA103EB3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C17090-6710-4D60-AFFD-AE94B7FF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BB1162-92A8-4EEC-A2E7-FCBED78E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88CC50-39BF-4FC9-94E9-8021B062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CEF518-605A-4909-A26F-228BB4AB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737-30DB-4FC0-8387-8F755E75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3E1A-C51A-4712-BD24-CBD96B25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7A8A28-14A7-4433-A67C-2FCB83FB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58B728-AC9B-4A17-A4B4-80516972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FEECF0-3A96-42B5-8BBD-FEA4DB90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5E1129-CAA2-40A3-B9B1-33D2A6C4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862F17-4F19-413D-B506-39B20B2D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668CDB-1A58-47FA-BAD2-3F203876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6786FC-DFDB-49BB-8D8D-F4F51B53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D8C229-1B56-44F0-9E84-E48EF888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6963D0-EE76-4275-9756-366EB9F7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6E32B4-C7B0-4E5A-AD48-737EB814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FCF3-2BCD-4C86-B36B-38432C69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48E267-260C-499A-A151-2302C8F6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196345-4D4F-4537-972F-CAFAA6A6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5C3052-2646-460B-99BE-B8F5DF0E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E49475-AAED-4D7D-9EC5-DD544E7E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9C08A8-FEC2-493E-AF3B-C7F52A6E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CE0793-4715-4B9B-BA19-6C210402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88DCDC-94A1-466A-939A-9BC2D59F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7DAEE4-E193-4B16-A554-2621D995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6C8356-5392-4200-AF36-E0A6800F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841046-06D0-4228-9656-07A6BDDF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A9FD-1D43-49F8-84BB-BA41296C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9C0A35-0342-42D6-9C2D-A642F746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6753D2-984A-4634-99AF-1726B80E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8DFE12-63E6-4D9B-B6BC-67DE75C1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B1F0FA-6851-4086-B3E1-DBB85C32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C92196-1DD9-4F53-A200-337D56CA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2C5BA9-9FAE-484F-BDEC-1A15EF1E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BF8DDC-EBF3-4C6A-9B3E-5FD23E1A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EA0BF5-91AB-4460-819C-5F929A41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FDEEA9-0E4C-41CE-A3CE-C414C37A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19A913-9004-4D78-9F40-93B65398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CBBA-8FD9-4C18-ABDA-71244B73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CE3A42-A61A-44E9-8566-F6BAD90A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1684F0-E772-4AE8-87F9-7C781A61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0B9E9E-E298-4384-A89B-95164A55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9437D9-81BE-4C48-8355-9318E44E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9970D0-9EF0-439A-921F-0785A582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3DAB00-E29E-49E3-91CF-85484473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BFCB12-53B5-4884-9FD3-334B214E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8DF9F1-DFD5-4722-A562-690F4038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8DCC21-28C0-4713-B340-926E70F5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89ABEC-3F29-430E-920E-16F2A94F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DFEB-5951-47C6-8BAB-F83A560D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8BCA2D-D34B-4F53-8FA4-1ACB54D8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49A93C-AA24-4BA3-9C7D-6AEA99AC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B1C3C7-BA28-4CB0-ACE7-685696B9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FB7078-4A99-4B21-A7C2-2D30FFE2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B3B29A-0D31-4C0B-81A4-2DA243B0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8A23C2-5ADD-4BAA-841E-9A7CB26A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E9159B-D7C6-45E8-A15C-182EDBB7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97833E-654A-4286-9C49-DD7A7812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D992C5-1C05-413E-AC98-20DB51E6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0E555F-9878-4296-8B99-5AFEBAD0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CA774-5A9B-4180-8697-5C282063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B68D93-E392-4E25-81EF-89ED81DD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BE4D4E-D054-4663-A18E-C0111B35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30C259-83C6-42FA-AE99-7938BF02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46243-99EA-4FFB-A022-161905F3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C2495-1EA6-4B62-A938-3D5CB522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B044D-17D0-45A0-AB97-36CB70BE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92C46-3F98-46AE-8A81-C16196D7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A91F-A12B-4075-A399-4C0DD92A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7DB40-0A55-4AEF-90C9-EA1485DE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F0E6A-BA62-4991-BC1C-0E0A1167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38D19-8F95-47E8-AF6E-CE2A6F09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2B7C8-D0F7-4BA5-9117-1CC7A82F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9F9FD-A1B2-4416-B2D8-64D8BA0B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1F683-0990-48AB-917A-BF878AFC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40277-DFE6-47A2-AEA7-A2063734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6FE51-640C-4C99-9850-C774D428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E2EBA-4A2E-4802-BA48-89024BE5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53457-BE8A-4180-870F-19EACAF6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142A-F68B-4247-BB55-E367BA77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02031-5FB7-4062-A6A7-D8856C9E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24A0E-306B-43EE-9A16-6FF6A0D6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DDAD4-BDC3-4FD9-B135-D9A78CC3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B2093-5FB5-4B00-A0C3-AFD02BF7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E34E0-98A4-48CD-82F7-F58DC2A4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B906B-1ECE-4907-9BAC-A78FA6ED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FF90C-DBCA-4069-97E8-06AF6ECE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C9371-935D-440B-B579-8098F664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2761B-D4DF-49C5-B201-29EC77BB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D9345-CA51-4380-889E-5E1B53B6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A909-8618-4763-B797-9B92F206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84AED-4FB7-4F1A-A71D-A2B40813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91F10-EBD2-48B7-BC2A-42155200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588EB-1C7D-447D-9723-BEF929CB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DB9A2-08A1-45AF-BF53-70520DB4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73CA6-7C41-4643-B18A-BE2AD694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EFA1E-DE23-40C7-BECA-843C5C07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7FC80-34D6-4A5B-B0D3-04E83D7F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D96AC-3CE1-4D27-BFAF-47B4A4D2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3A7CC-242E-433E-9859-B50FF59C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813D4-53DA-4FE7-A09C-F51336F1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376-3337-4E30-ABD6-C2E5C3C7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AA8EB-6235-4420-80A5-1A579D78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9CA99-64C5-49CB-AC6F-871C9B08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F9E9C-C8BF-4F29-BB81-6B94ECA1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1B02A-D63F-456C-BB0A-FEB35C99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3B62C-7D22-4C31-B0F6-5AFFA645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00BAD-BFF9-41BF-BE01-DA713BE0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D6667-8664-47AB-A4D9-567E8C2B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DF163-A6D6-4345-AA91-C12DC088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33CF0-1C10-4D4E-9B88-A43C766A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FB9FC-C613-47CA-A462-F63F4EBA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3D28-0A77-43B3-B461-359D2EE8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6D612-1DCB-4F8B-A0DD-D6C95704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7A420-E83C-4375-9750-9631FFEF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21D70-5F91-4EB3-A38F-C4E29C91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56D46-9FBE-459F-B9F5-AC300062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89C42-58AF-43FE-A207-F598CF97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56B78-AB80-4CB9-8E1B-E9051BAB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9C46B-1871-45BF-BE5A-A772112D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9556C-FA23-444F-98EA-CC1FF246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25C98-AF9F-4143-BCE2-0C376C1B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63F19-A4F5-43EE-AB88-3707B40A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EE8-C9F8-4A49-A335-474AB7DA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EE61B-294A-4869-B1CB-D094E538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2693A-3742-4FC7-AB3B-9B3EB3B4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D5147-669B-443C-AE66-2E428C6F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61E5C-9387-4303-B9E0-C393C9E4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05458-7FBD-4D8F-B808-715C8A50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DEE38-BFE4-4473-BA7C-A7428F94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85018-1EE6-4597-AB4C-63FAC8A4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8D548-C3C3-49CE-8C73-29918B0B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9EE00-9982-4ECC-BA20-C37444CB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B261C-B4A2-4011-A74D-1C4B2D45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DD14-55A6-41DD-B4CF-8616D547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5F06D-5882-4141-8845-DCA5BA48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25CEA-53C6-4E90-B5AD-560424F5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F23D5-1CBD-42D3-A1C8-B63CA145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970C0-59D1-46CA-A301-5F51B3ED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AA78D-8DC0-414B-AE83-58D747C7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05209-2E00-437B-A043-3552513B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189CF-8351-4EEE-9959-E7EA00D7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1F074-7D56-4607-8047-507D0D2D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8E4BB-9845-4107-B8D5-9BCD5B6D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D71B2-21C7-45A1-8CF4-EE41D308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BE2B-52EF-4E17-BAC9-695969197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3656-E70B-4476-A6D8-911E964AE8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C12E-E8FB-4CDF-A44B-ABC28B4CDA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17D6-CEFB-4047-9F42-5FBB44A9A3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439D-994B-4CEF-831B-FF52BB575D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1D8F-E776-44A5-9619-A714CA550C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FB96-F0C4-44D6-BEC0-AAA8047665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6C46-C130-4B60-97AD-07B1122AFF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C6DA-0AC5-4C87-B7BC-4D3A17B4C9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6435-C402-4ED5-83A7-5E6377AAE4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4BC1-05DA-42B3-B407-82621D56F3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6B4E-2AA1-4241-A4C2-E9C4EE1EB9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3FCE-46C7-48AA-A9AF-C4C19B9C92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0FA2-FE07-41EF-BC73-1D0F767353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E4BC-FFAB-42A1-82F4-7F7508474F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62C0-1C12-4E01-9D38-A31F5C92C3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9190-B1E1-4C7D-BA1E-06740885E1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62D4-1D40-47DF-9D51-9D7CF7DC7B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4CB7-84B0-4FC9-99B2-865CBF4765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6FE4-FD6E-40A5-B33E-BD8C4D1515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468F-2652-4874-A572-C866362990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DC59-C20A-448A-A662-424F638DFC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B70D-5B19-4666-A82B-BDF001A1D5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C983-29BA-4972-B470-E1F8F5ADB9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64B6-F25F-4FB1-8932-7D6C852393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CCFE-F013-42F8-9982-ABF3C21F65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DA46-87D9-4D60-949E-3193882444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EAB4-5022-4A9E-ABF8-6127089D7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1B6E-E788-4832-A3C1-5A549D7304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83C5-6A7B-4D3D-8E25-4C4DC4D6D0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B699-027C-487D-8E5C-4F9EAD6FC0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B01E-E67F-4326-919A-52CCB96C3F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CB0A-E178-4826-96C4-2BBFEE5036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4FFE-8740-4985-A826-9B1F2DA83C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7480-2EED-4FCF-A4E6-2BE86CC8DE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C9D4-9346-413E-9A88-F69F8D1443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54EE-F778-4AB5-85B1-8CFCCE2C9C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62C7-9A4B-4E17-B8E2-3B83AFE407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C32E-6717-41CB-9E16-045E15EC4E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AC62-CF5F-446C-B70D-BB615EFDCC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662200" y="3143160"/>
            <a:ext cx="38196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3" descr=""/>
          <p:cNvPicPr/>
          <p:nvPr/>
        </p:nvPicPr>
        <p:blipFill>
          <a:blip r:embed="rId2"/>
          <a:stretch/>
        </p:blipFill>
        <p:spPr>
          <a:xfrm>
            <a:off x="128520" y="1266840"/>
            <a:ext cx="8885160" cy="43243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476360" y="2997360"/>
            <a:ext cx="647640" cy="3204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3492360" y="2997360"/>
            <a:ext cx="648000" cy="320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5580000" y="2997360"/>
            <a:ext cx="647640" cy="3204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8172360" y="2997360"/>
            <a:ext cx="647640" cy="3204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274760" y="3457440"/>
            <a:ext cx="64764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3218040" y="3457440"/>
            <a:ext cx="647640" cy="320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5925960" y="3457440"/>
            <a:ext cx="878040" cy="320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7812000" y="3457440"/>
            <a:ext cx="647640" cy="320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841320" y="5099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2857680" y="5084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395280" y="811080"/>
            <a:ext cx="8353440" cy="5426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1189080" y="2143080"/>
            <a:ext cx="474480" cy="422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1187280" y="2708280"/>
            <a:ext cx="474840" cy="422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1187280" y="3213000"/>
            <a:ext cx="474840" cy="422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1187280" y="3716280"/>
            <a:ext cx="474840" cy="422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1187280" y="4235400"/>
            <a:ext cx="474840" cy="422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7"/>
          <a:stretch/>
        </p:blipFill>
        <p:spPr>
          <a:xfrm>
            <a:off x="1187280" y="4797360"/>
            <a:ext cx="474840" cy="422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8"/>
          <a:stretch/>
        </p:blipFill>
        <p:spPr>
          <a:xfrm>
            <a:off x="1187280" y="5315040"/>
            <a:ext cx="474840" cy="422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9"/>
          <a:stretch/>
        </p:blipFill>
        <p:spPr>
          <a:xfrm>
            <a:off x="1187280" y="5834160"/>
            <a:ext cx="47484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图片 1" descr=""/>
          <p:cNvPicPr/>
          <p:nvPr/>
        </p:nvPicPr>
        <p:blipFill>
          <a:blip r:embed="rId1"/>
          <a:stretch/>
        </p:blipFill>
        <p:spPr>
          <a:xfrm>
            <a:off x="380880" y="2395440"/>
            <a:ext cx="838224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24:10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